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E1E-40FA-49DE-95F0-B3213D2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F0C-E1AB-4201-9D45-32188A7F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3C4C2-23DD-443D-885C-18EC8C0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7E15B-53CB-41C0-9C4D-B91B989C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2E12-A388-4D76-A0AB-9BFC285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28948-909F-4802-8118-D697A176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F64A5-9ABD-4A1B-86CB-3A212359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AB0BB-21A1-40FE-BC70-D138726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B06D4-6F39-47BA-978A-D7D362E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4C1A-5033-40E6-AD29-C769D362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4F5C2-D41A-4A4E-9F7C-C909B2F5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0CC1D-CCDF-4669-8201-F33DB98C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2A7-7410-4580-8B7D-3CF1F272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A0092-CD03-47A5-B098-6FF33875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7E56C-9B87-4FBF-8535-1230AAE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9714A-9533-4740-9604-33C03FAB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878E8-8B21-499B-AC54-CFF4D605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0E7D6-09BB-411D-B373-DEDD8B5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62327-44C1-4213-90F1-D6F2861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00581-07F0-4B14-9352-9572974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843A0-DF41-43B9-B9AB-E2E3564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AD223-D8B6-418E-A403-4B57525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582CE-FCE6-456C-9D62-9422221B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D75-F21A-43E0-A009-605F211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B128C-744F-41D0-B6AC-7F6E3237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74CE0-ADD3-4959-A2B8-1A7E8324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C10B4-6C32-4D64-83E6-03C86D16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E3AE7-3EBB-4E37-BE2D-0669839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A555-189F-4FE3-9FA9-42CA44F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27856-EB9E-4543-A53A-48C98EE2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746A6-AEA6-4F0B-89CB-B71B68C1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D546D-2703-4C30-9C82-BAD4CB1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40C3-0D4A-4575-90DC-5A30AE5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C0DFE-1B0C-4911-8A13-93A28EC9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2E0A-507A-488D-90DF-203C4844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100BE-1EA8-409E-9C1E-850ED3AB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1DCE1-3D70-419B-98DB-1D270D4D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75E2-0DE3-4388-A41F-EA87B53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A0E13-DA19-4E44-B705-42F559F8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E2717-65E7-449F-B3E7-541B69B1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E72B2-110F-4151-B2FD-3BE6240D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ED60E-64E8-412F-B9B6-43C45C1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1B460-958F-4FA8-B6C7-510F0B2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A8245-C65A-4816-B135-CC5BABA2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5087B-D843-42D4-B7C0-41E1ABB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5C0C-7FA1-4EEF-9CE9-9D4BFF31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5200F-6D6A-4F1F-BF61-0B549E6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F6985-9A34-40B8-80A2-51E83CDA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8AF7E-57CD-43CB-BC93-45B9F26A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68316-D831-41DA-A4A6-254CF725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90F26-AEF4-4602-B903-7B4046BC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23BD6-1F65-49AC-8C7D-869CFE37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8E457-2421-4877-A4E3-BF849099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470A2-4903-46BD-A8FD-B12CC65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E92D6-9EDC-4499-A532-60761342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646DE-D621-4252-BADA-4D6F562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B2A-9237-4B08-80D0-6030960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B097F-E92D-46FE-B160-9B5CFA36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62597-F88F-4C8C-B230-A24746C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44CD0-56E8-4B00-9EB9-BEB5D75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14057-5690-42BF-981D-A921BDF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71EDE-C9A2-43B4-BBAB-2AD2528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29319-6B2D-4A54-AAA8-F11DDF01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651FE-88D3-4B48-A2DB-9DC02037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BD986-DDB5-4A6B-9669-555793C0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E1831-A621-4B52-B2E4-BE0DE7EF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BEB58-C729-4B6F-AE4B-F1494FBB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29A8-B1E3-4DC2-B3E4-73D255F7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3A5AC-34CB-4CDD-B823-0C915299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89C7C-8B6D-488C-9188-6DB104F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40C77-8F70-47A2-ADF3-EC9D3E78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29387-F86A-4204-8358-A6F0EECC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E8D7F-81E3-4ECB-BF2B-FE60D82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C00DE-1179-4175-BFC5-3E7DCF66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92981-E615-4D4D-B962-73809A86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0AF85-E66A-413F-90B5-916B4246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44A80-7949-4FB5-9A2A-9FF8C834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E776B-8714-4682-916A-8002D336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738F-95DD-4436-96F7-5445F1A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7AE50-5846-4EEB-9D35-FA024E1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1E157-C541-4D90-8E5F-A23683A3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41316-D829-4FC4-B948-7AE85A27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0516D-7879-4DFA-A204-7D2E2BC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04EA8-9C0D-4626-89A6-1CAFFE7D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F6EE3-C875-461C-A1C4-56587DC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0BC90-DF38-45FD-A4C0-193BE68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EEEC5-75D5-472F-A008-5D485EC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2319C-B18F-4605-A997-5C8771DE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4CE5B-8B34-438E-BE2C-9C872957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A2A8-F498-42B7-91CB-3286AD5B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66C5C-0224-41CE-AD0E-0C4E179C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79A6B-DFC5-469F-B3E4-63526E5C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ECA26-A5BF-4E6D-858E-8709A9D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D4D96-4B1B-416B-909D-EAB1285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B977B-C55C-4C92-9B3B-A3C96572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49FA8-DD10-47C1-80A4-932506EB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2FF32-492E-48E7-BA14-28D4B496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596F3-7A88-468B-BF08-6CB9055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71786-771D-4654-868E-A5FFF94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8A5D5-C4F6-4A0B-AF18-E6AD452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F6BD-71CD-46FE-B02D-D60CB42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B8B03-F614-4561-8C50-66FAE7CE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7AA1C-2464-4BED-AAE5-A68E5B50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323FE-5945-4560-8325-093665A4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7984A-3DFC-4786-A7AB-EC16D86C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8BBB0-C598-4F09-8C04-DFCC08C8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525B4-B9CB-4DDC-B26E-0403FDB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7BFFD-3FA1-4D47-BFF1-19CBBD18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CBA07-103D-4D37-8461-807DDC2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9536A-1726-4177-BF15-98877F9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BE380-F954-4F68-8129-C17CF60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590-58A2-40F1-8BD6-363CB865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060-E37F-4F69-A013-C1FBA93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27EF3-0171-4439-BAAA-D645D22A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97EB5-C9BC-4907-A900-4E7639C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AB428-E3D9-4FAD-B4EF-B773160F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E6764-E65F-420F-88C5-417D8542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C5BFA-3BC3-4019-A44B-F363BA8A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77C676-87F3-4B3F-9459-54B87FFF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8D17A-64D9-4E10-BFFC-A8B5264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FD8EA-9D2C-4DAC-A8D5-16299C1D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11ECF-575F-4CF1-8842-DA90B80C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7C163-B4EB-49F8-AD13-2FDE361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AA51-0C1F-47E6-9EB6-F3EAD59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2242B-60CA-454C-BE9E-4146129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A4D0D-48ED-4058-BF39-0D26BC6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2991C-63BA-4EB0-8F14-724EBF76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717E4-18E2-4F2C-854D-1D1632DF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5FC31-684E-4BEA-9C01-00FE1C74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F81F3-971B-497A-B4FC-B0AEA1FC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44035-689D-4A62-BEF0-4D77E153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54D58-2B1F-48BF-9D69-4B0F96D9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BD2A6-A4F1-4BD3-B1DE-99011CBC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9EB47-1440-475E-A362-D7B8722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2803-B428-4553-8A35-34BBB4C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27A63-A8E5-4050-A5E5-E519EE4C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3F6E3-D6C0-4789-9841-EF1E7394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30F90-824D-470D-AA40-A49B3F30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C31F1-C696-4C2E-9A97-81B5DA7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F26FA-8C5F-43BC-8BD3-6A1E97D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C8BE4-452A-4F8B-B41D-FCE6D7E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32101-D34E-4582-8200-DC75FE8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C9490-9601-43B5-921F-C9FFA699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65F288-FEA9-4DC3-9EC4-57651B5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C5834-C985-4274-BA98-62706F7F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86D-CAE3-4E6A-8E3E-B4AE3745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F52A6-5EF9-45E5-A68B-64AE52CE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17018-FFD5-4758-A975-18DC080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51B7CA-AE11-43E9-9A27-DEDB1BD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B10DB-3294-4F17-9967-DC618D0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5FDF2-B238-4385-9C0E-9E048AF1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593D7-18FB-4600-BCBF-1898307F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98015-B469-4444-A8FF-4C13314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2644A-2A71-42B0-8960-3451AD5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5DD2A-5AC0-45F6-A859-8B72B571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CF383B-FDEC-473C-A0F5-4A3BD0D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1475-5373-4B60-909B-2859A853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48953-4CA8-4583-86F6-792BC90C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23D3C8-3326-452C-AE2E-FEE324CE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AB715B-43D2-49E8-AF9C-0DD9EFE0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71368-9F67-44DC-A426-F662DE8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1ED0B-F6AD-45A9-AE5B-5239766D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F5F3B-DF99-4332-A1E4-3F75375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D461E-D8A4-47E7-A2C5-13C672EF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34187B-8B88-459C-9E5A-30781C6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7E3A2A-FA28-4D6D-95B7-26A3022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75DCF-6B09-4B87-8211-FC54A55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8361-E054-44CC-A075-3D121B89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3C40E-A584-4C12-A09B-10943DB6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B55E8-BE6F-46AE-916B-3289A10D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5F731-FDD6-4226-AAE5-92AAA359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3E9C-EA31-4F9E-B2B1-6916C564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966A-FCE9-4001-8D8A-949DC3F0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DFC3-8091-40A0-A6F6-04FC094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F385-A396-4A03-A880-30E93495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043-655C-40B9-909D-DADAB61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D738-8D49-4AC5-B45F-CE57097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C2D3-0D8E-4E9C-A7E0-42FCF09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5F3C-8563-4BE9-8373-85E4149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652C-C78B-4F14-85D7-B45AC68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722D-5E2F-49AC-9162-7D17D5E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C1CA-2919-41D0-95DE-E0FC86D1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7A13-0A86-4084-A4DA-D833EF48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33CD-FA76-434F-B577-2F522186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E206-299C-46E8-ADE7-77F29DF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605D-5F09-4797-82B8-4E19AD47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F20-0466-4F4B-80D2-0DB00664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7F94-6B0A-4272-B557-A6B95A1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912F-217C-4FED-B70A-16BD187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08D8-68C0-4D18-815D-B3674A2F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BDEF6-31BF-4626-B2BA-5B64634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DAE6-60B8-464B-AE46-8BDE6C0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39E1-5322-4C00-8DF0-6938ADB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B082-2ED8-4DAE-86E9-1B1140A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B5E7-E8A4-4B20-91FE-AE58E8E5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2593-2237-4A22-A070-C0DCA0B5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C0D6-164E-46A5-B6F9-CB5396B4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BB2-FE15-40B9-ADC1-D74E0EF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05E5D-1A3A-4A1D-B906-F38D784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8357-149F-4F0F-9370-BF807372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1E38-55BE-43F9-8463-0D2B120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1DF5-D8A0-45F6-8F55-5C0050A2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41C7-0080-424A-A5F2-3B41D73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0626-0D43-486C-8E24-B44A6EF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78DA-B5F1-4F5F-A496-BBB0D298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EEAE-DFF1-4FEC-9C9F-040E67F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63682-CEA3-4D0B-BC4A-354F1810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EE94-0D12-4B4F-8642-ACF446BE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9C4-C96F-4A93-83CE-4A69C1C0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1851-A13C-489C-A58A-AE25253A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4F9E-856E-4095-AA3B-294E9D54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E206-FEBB-4E85-8EC2-FFFADDB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58C11-736A-455A-886E-81F2302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C5FEF-A126-45F2-ACF3-B3BBED7C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3303-7C96-4BD4-96AD-282041B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3A077-253D-4D23-85B6-2D9298F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A84E8-D3CE-4ABE-940C-8EB1F00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E6DA9-11E7-4919-9A1B-90FEE72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5AD6-AC7D-4FB0-A91D-003AF87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5AE-0BB4-4D53-8810-9BB4BCB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71DA-D847-436B-A270-D6C5714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844D4-6537-4327-8239-00F2235E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ADB8-6608-49E4-8587-7E6C85AC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ECD6-A129-417A-A366-D587185A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C89D-196B-452C-911E-FAC827A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E090-32C2-4FD9-B14D-B53CC4A5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E4DF-0F8E-4EC1-962F-9B98CFBC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289D8-1EBD-4B4B-BED4-2978655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2D3A-DADE-4CA5-871E-59F62DA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B64A-86F4-4683-B0AA-ADB780B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399-F0FE-41C7-96B6-94DB90A2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3E67-9C98-43BF-8303-F39111A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92E2-63FB-4C2D-B072-E852073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2F3E7-DCB8-462E-B950-5946DF8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18C1-468A-45D4-8CE6-93CD1947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94F5-6C24-4494-BD09-BEF49BA1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5F6D-C3C7-4510-B55B-4A17D4A1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8F13-3EFB-4A8C-B5F2-B1E24B4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0072F-6EF0-4031-BDBF-9BA7C6FC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C93FC-54AB-4C6F-A8AA-2C2AC375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737E-8C7B-49B4-BBB8-99861408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CD3-687F-48A1-9F00-ABBE56F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F3922-E036-4267-BC9A-F8E014E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7CBA4-E2CC-4C1A-B72A-20E0080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240D0-4B88-4330-A071-B0C9A16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D9C1-F3FE-46A8-88E3-8726A0EE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00985-5D98-4AE1-8EB8-DBDB1477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9E8B2-BC16-4F0E-A499-E9E4516F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74F1-509E-4462-805D-FC25195F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B3F9E-E6F2-45BB-AB80-2AA45626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57B77-AC3D-4872-8030-F0C1A292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8D41C-3E17-44F0-AB0B-9C5CC819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B9B0-BA52-4213-8EF5-8E52C2F53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A74A-77EE-44AD-A295-C881848D87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EBE1-1225-4DDA-BE05-2B2FEB8BF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F9D8-AEA8-4773-96A0-8D37DC2CC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298E-8077-49FA-BE44-4F23C0AC1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4F3-E119-4E3A-9166-A9A98882C3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3C67-2962-49C6-A7C8-AFCA7AA20D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81D-93F0-4F27-8E7F-131CE7F8D6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A309-5519-43E2-BF9D-7D0B911A43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05BA-0F27-4573-8ED8-8C09A40C4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6E05-FE43-4B63-908F-218B1DAB9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883-F541-48A4-968A-11214E7B1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0DB-5CE2-4294-B4DE-4763129CC3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3E74-A004-4362-9409-B0EA9E320E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FAD-02C2-4862-A689-C823A4550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0FB1-28FE-4783-A2E2-BF99874FB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71C-C51E-45E7-B0E2-31610FEDC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C381-B13E-4D4C-AE57-CFDBC8405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CEF-2C54-4E1C-8D57-37E4C3D299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B19-0F05-4EBE-90DC-D60659485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A1CC-AC24-46C9-9724-DDE782A49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6ED-6F9B-4B0A-87DB-4EC6ECF01F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C140-7989-44C4-99AD-1FA9289BC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FCF-DF04-4C58-A000-655DBBE49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BCF-80EA-4278-BA75-BFE046B1BA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FC89-E5F8-4AE2-AFDA-C3372D3E6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6416-35BC-46F4-8415-30857F9711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8CD-A133-4B9F-A413-2528E39EA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7B22-F522-4F8E-99C5-CE6D443EC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CDBF-A67E-4F76-AEA4-4D98494AB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BC9-8C90-483B-90FC-1EC07B366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58B8-3B23-4B00-8B69-EB12DC49F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A77-0171-4A5D-8603-DBDE34E07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A2D-BA4B-42B6-82B2-8ADEF0D42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377-BCED-4A53-AB07-27C0F1DC4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1306-C2FE-43D7-9AC4-9396A21EC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7230-01BE-4213-917B-A299CE5F9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ECD-3CE3-4121-ABFD-350D425FF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092-DE7C-4E69-8A81-953F7A8F0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736A-F695-4608-8825-E169CE72D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57480" y="2503440"/>
            <a:ext cx="6629400" cy="6382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14480" y="3749760"/>
            <a:ext cx="89154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1"/>
          <p:cNvGrpSpPr/>
          <p:nvPr/>
        </p:nvGrpSpPr>
        <p:grpSpPr>
          <a:xfrm>
            <a:off x="299880" y="2347920"/>
            <a:ext cx="8542440" cy="2162160"/>
            <a:chOff x="299880" y="2347920"/>
            <a:chExt cx="8542440" cy="216216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299880" y="2347920"/>
              <a:ext cx="854244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1547640" y="3298680"/>
              <a:ext cx="7128000" cy="77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直接连接符 4102"/>
          <p:cNvSpPr/>
          <p:nvPr/>
        </p:nvSpPr>
        <p:spPr>
          <a:xfrm>
            <a:off x="2124000" y="3284640"/>
            <a:ext cx="172728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3"/>
          <p:cNvSpPr/>
          <p:nvPr/>
        </p:nvSpPr>
        <p:spPr>
          <a:xfrm>
            <a:off x="4500720" y="3284640"/>
            <a:ext cx="172692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4"/>
          <p:cNvSpPr/>
          <p:nvPr/>
        </p:nvSpPr>
        <p:spPr>
          <a:xfrm>
            <a:off x="6300720" y="3284640"/>
            <a:ext cx="172728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5"/>
          <p:cNvSpPr/>
          <p:nvPr/>
        </p:nvSpPr>
        <p:spPr>
          <a:xfrm flipH="1">
            <a:off x="1835280" y="3284640"/>
            <a:ext cx="612144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6600" y="1776240"/>
            <a:ext cx="9010800" cy="3305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116000" y="236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99960" y="1871640"/>
            <a:ext cx="8344080" cy="3114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55640" y="1859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114560" y="2062080"/>
            <a:ext cx="6914880" cy="2733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2124000" y="37893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14200" y="1152360"/>
            <a:ext cx="8713800" cy="4553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3203640" y="2952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7667640" y="31701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148360" y="49276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2:57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